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ct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ct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da4b5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1935360"/>
            <a:ext cx="7848360" cy="283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ultiplying and Dividing Inequalitie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1079280" y="1676520"/>
            <a:ext cx="3152880" cy="1028880"/>
            <a:chOff x="1079280" y="1676520"/>
            <a:chExt cx="3152880" cy="1028880"/>
          </a:xfrm>
        </p:grpSpPr>
        <p:sp>
          <p:nvSpPr>
            <p:cNvPr id="215" name=""/>
            <p:cNvSpPr/>
            <p:nvPr/>
          </p:nvSpPr>
          <p:spPr>
            <a:xfrm flipH="1" flipV="1">
              <a:off x="1079280" y="2109960"/>
              <a:ext cx="1571400" cy="14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90520" y="2108160"/>
              <a:ext cx="30020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86080" y="2031840"/>
              <a:ext cx="39960" cy="127080"/>
            </a:xfrm>
            <a:custGeom>
              <a:avLst/>
              <a:gdLst/>
              <a:ahLst/>
              <a:rect l="l" t="t" r="r" b="b"/>
              <a:pathLst>
                <a:path w="56" h="80">
                  <a:moveTo>
                    <a:pt x="0" y="0"/>
                  </a:moveTo>
                  <a:lnTo>
                    <a:pt x="0" y="80"/>
                  </a:lnTo>
                  <a:lnTo>
                    <a:pt x="5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2560" y="204480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192560" y="2107800"/>
              <a:ext cx="39600" cy="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4192560" y="2044800"/>
              <a:ext cx="3960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44440" y="2031840"/>
              <a:ext cx="5724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80"/>
                  </a:moveTo>
                  <a:lnTo>
                    <a:pt x="80" y="0"/>
                  </a:lnTo>
                  <a:lnTo>
                    <a:pt x="0" y="40"/>
                  </a:lnTo>
                  <a:lnTo>
                    <a:pt x="8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208160" y="204444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1149120" y="2044800"/>
              <a:ext cx="5868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49480" y="2108160"/>
              <a:ext cx="58680" cy="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863720" y="198108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690640" y="1981080"/>
              <a:ext cx="180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3519360" y="198108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96960" y="16765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31960" y="2217600"/>
              <a:ext cx="544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43400" y="2217600"/>
              <a:ext cx="544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1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97120" y="2217600"/>
              <a:ext cx="544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1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066680" y="2522520"/>
            <a:ext cx="3267360" cy="991080"/>
            <a:chOff x="1066680" y="2522520"/>
            <a:chExt cx="3267360" cy="991080"/>
          </a:xfrm>
        </p:grpSpPr>
        <p:sp>
          <p:nvSpPr>
            <p:cNvPr id="233" name=""/>
            <p:cNvSpPr/>
            <p:nvPr/>
          </p:nvSpPr>
          <p:spPr>
            <a:xfrm flipV="1">
              <a:off x="2727360" y="2935440"/>
              <a:ext cx="1606680" cy="14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66680" y="2946240"/>
              <a:ext cx="31021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33960" y="2870280"/>
              <a:ext cx="42840" cy="127080"/>
            </a:xfrm>
            <a:custGeom>
              <a:avLst/>
              <a:gdLst/>
              <a:ahLst/>
              <a:rect l="l" t="t" r="r" b="b"/>
              <a:pathLst>
                <a:path w="56" h="80">
                  <a:moveTo>
                    <a:pt x="0" y="0"/>
                  </a:moveTo>
                  <a:lnTo>
                    <a:pt x="0" y="80"/>
                  </a:lnTo>
                  <a:lnTo>
                    <a:pt x="5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90440" y="2870280"/>
              <a:ext cx="5904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80"/>
                  </a:moveTo>
                  <a:lnTo>
                    <a:pt x="80" y="0"/>
                  </a:lnTo>
                  <a:lnTo>
                    <a:pt x="0" y="40"/>
                  </a:lnTo>
                  <a:lnTo>
                    <a:pt x="8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155600" y="2882520"/>
              <a:ext cx="180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1096560" y="2882880"/>
              <a:ext cx="5868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96920" y="2946240"/>
              <a:ext cx="58680" cy="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833480" y="28191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689200" y="28191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544920" y="281916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60600" y="25225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54280" y="3025800"/>
              <a:ext cx="544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84440" y="3025800"/>
              <a:ext cx="544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1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00360" y="3025800"/>
              <a:ext cx="544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1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079280" y="3348000"/>
            <a:ext cx="3152880" cy="1033920"/>
            <a:chOff x="1079280" y="3348000"/>
            <a:chExt cx="3152880" cy="1033920"/>
          </a:xfrm>
        </p:grpSpPr>
        <p:sp>
          <p:nvSpPr>
            <p:cNvPr id="248" name=""/>
            <p:cNvSpPr/>
            <p:nvPr/>
          </p:nvSpPr>
          <p:spPr>
            <a:xfrm>
              <a:off x="2442600" y="334800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Lucida Grande"/>
                </a:rPr>
                <a:t>●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1079280" y="3785760"/>
              <a:ext cx="1571400" cy="18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90520" y="3784680"/>
              <a:ext cx="30020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86080" y="3708360"/>
              <a:ext cx="39960" cy="127080"/>
            </a:xfrm>
            <a:custGeom>
              <a:avLst/>
              <a:gdLst/>
              <a:ahLst/>
              <a:rect l="l" t="t" r="r" b="b"/>
              <a:pathLst>
                <a:path w="56" h="80">
                  <a:moveTo>
                    <a:pt x="0" y="0"/>
                  </a:moveTo>
                  <a:lnTo>
                    <a:pt x="0" y="80"/>
                  </a:lnTo>
                  <a:lnTo>
                    <a:pt x="5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92560" y="372096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192560" y="3784680"/>
              <a:ext cx="3960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4192560" y="3720600"/>
              <a:ext cx="39600" cy="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44440" y="3708360"/>
              <a:ext cx="5724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80"/>
                  </a:moveTo>
                  <a:lnTo>
                    <a:pt x="80" y="0"/>
                  </a:lnTo>
                  <a:lnTo>
                    <a:pt x="0" y="40"/>
                  </a:lnTo>
                  <a:lnTo>
                    <a:pt x="8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1208160" y="372060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149120" y="3720960"/>
              <a:ext cx="58680" cy="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49480" y="3784680"/>
              <a:ext cx="5868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863720" y="365760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690640" y="3657600"/>
              <a:ext cx="180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519360" y="365760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31960" y="3894120"/>
              <a:ext cx="544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43400" y="3894120"/>
              <a:ext cx="544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1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97120" y="3894120"/>
              <a:ext cx="544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1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076400" y="4419360"/>
            <a:ext cx="3138480" cy="724680"/>
            <a:chOff x="1076400" y="4419360"/>
            <a:chExt cx="3138480" cy="724680"/>
          </a:xfrm>
        </p:grpSpPr>
        <p:sp>
          <p:nvSpPr>
            <p:cNvPr id="266" name=""/>
            <p:cNvSpPr/>
            <p:nvPr/>
          </p:nvSpPr>
          <p:spPr>
            <a:xfrm flipV="1">
              <a:off x="2660760" y="4535640"/>
              <a:ext cx="1554120" cy="14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22480" y="4546440"/>
              <a:ext cx="3001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18040" y="4470480"/>
              <a:ext cx="41040" cy="127080"/>
            </a:xfrm>
            <a:custGeom>
              <a:avLst/>
              <a:gdLst/>
              <a:ahLst/>
              <a:rect l="l" t="t" r="r" b="b"/>
              <a:pathLst>
                <a:path w="56" h="80">
                  <a:moveTo>
                    <a:pt x="0" y="0"/>
                  </a:moveTo>
                  <a:lnTo>
                    <a:pt x="0" y="80"/>
                  </a:lnTo>
                  <a:lnTo>
                    <a:pt x="5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76400" y="4470480"/>
              <a:ext cx="5724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80"/>
                  </a:moveTo>
                  <a:lnTo>
                    <a:pt x="80" y="0"/>
                  </a:lnTo>
                  <a:lnTo>
                    <a:pt x="0" y="40"/>
                  </a:lnTo>
                  <a:lnTo>
                    <a:pt x="8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139760" y="448272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1082160" y="4483080"/>
              <a:ext cx="5724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82520" y="4546440"/>
              <a:ext cx="57240" cy="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795320" y="44193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2622600" y="441936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451320" y="441936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563920" y="4656240"/>
              <a:ext cx="544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75000" y="4656240"/>
              <a:ext cx="544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1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30520" y="4656240"/>
              <a:ext cx="544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368080" y="4122720"/>
            <a:ext cx="51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AnswerNow"/>
          <p:cNvGrpSpPr/>
          <p:nvPr/>
        </p:nvGrpSpPr>
        <p:grpSpPr>
          <a:xfrm>
            <a:off x="76320" y="5334120"/>
            <a:ext cx="4444920" cy="698400"/>
            <a:chOff x="76320" y="5334120"/>
            <a:chExt cx="4444920" cy="698400"/>
          </a:xfrm>
        </p:grpSpPr>
        <p:sp>
          <p:nvSpPr>
            <p:cNvPr id="282" name="ANShape"/>
            <p:cNvSpPr/>
            <p:nvPr/>
          </p:nvSpPr>
          <p:spPr>
            <a:xfrm>
              <a:off x="2139840" y="533412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NText"/>
            <p:cNvSpPr/>
            <p:nvPr/>
          </p:nvSpPr>
          <p:spPr>
            <a:xfrm>
              <a:off x="76320" y="552456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) Solve 7v &lt; -1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CorShape1"/>
          <p:cNvSpPr/>
          <p:nvPr/>
        </p:nvSpPr>
        <p:spPr>
          <a:xfrm rot="10800000">
            <a:off x="101160" y="1792440"/>
            <a:ext cx="444600" cy="4442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9296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0043"/>
                </a:solidFill>
                <a:latin typeface="Times New Roman"/>
              </a:rPr>
              <a:t>When we multiply or divide an inequality we need to perform opposite opera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233"/>
                </a:solidFill>
                <a:latin typeface="Times New Roman"/>
              </a:rPr>
              <a:t>In order to undo multiplication, we will 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233"/>
                </a:solidFill>
                <a:latin typeface="Times New Roman"/>
              </a:rPr>
              <a:t>In order to undo division, we will 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233"/>
                </a:solidFill>
                <a:latin typeface="Times New Roman"/>
              </a:rPr>
              <a:t>SPECIAL CA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233"/>
                </a:solidFill>
                <a:latin typeface="Times New Roman"/>
              </a:rPr>
              <a:t>If we multiply or divide by a NEGATIVE number we must switch the direction of our a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677240" y="28954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396252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eaec5e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Solve       &gt; 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372280" y="317520"/>
          <a:ext cx="64764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317520"/>
                    <a:ext cx="64764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1152360" y="5715000"/>
            <a:ext cx="6962760" cy="1020960"/>
            <a:chOff x="1152360" y="5715000"/>
            <a:chExt cx="6962760" cy="1020960"/>
          </a:xfrm>
        </p:grpSpPr>
        <p:grpSp>
          <p:nvGrpSpPr>
            <p:cNvPr id="47" name=""/>
            <p:cNvGrpSpPr/>
            <p:nvPr/>
          </p:nvGrpSpPr>
          <p:grpSpPr>
            <a:xfrm>
              <a:off x="1152360" y="6011640"/>
              <a:ext cx="6962760" cy="216000"/>
              <a:chOff x="1152360" y="6011640"/>
              <a:chExt cx="6962760" cy="216000"/>
            </a:xfrm>
          </p:grpSpPr>
          <p:sp>
            <p:nvSpPr>
              <p:cNvPr id="48" name=""/>
              <p:cNvSpPr/>
              <p:nvPr/>
            </p:nvSpPr>
            <p:spPr>
              <a:xfrm flipH="1">
                <a:off x="1152360" y="6140160"/>
                <a:ext cx="3470400" cy="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396800" y="6138720"/>
                <a:ext cx="66294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013600" y="6062400"/>
                <a:ext cx="88920" cy="12708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026200" y="6075360"/>
                <a:ext cx="180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8026200" y="613872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flipV="1">
                <a:off x="8025840" y="607536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295280" y="6062400"/>
                <a:ext cx="127080" cy="127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1434960" y="6075360"/>
                <a:ext cx="144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1307520" y="607536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307880" y="613872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2882880" y="601164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4711680" y="601164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6540480" y="601164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4501800" y="5715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83160" y="6248160"/>
              <a:ext cx="544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5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73800" y="6248160"/>
              <a:ext cx="544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5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41400" y="6248160"/>
              <a:ext cx="544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5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886200" y="2362320"/>
            <a:ext cx="54100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k </a:t>
            </a:r>
            <a:r>
              <a:rPr b="1" lang="en-US" sz="4400" spc="-1" strike="noStrike">
                <a:solidFill>
                  <a:srgbClr val="fc0128"/>
                </a:solidFill>
                <a:latin typeface="Times New Roman"/>
              </a:rPr>
              <a:t>&lt;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-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 the fraction - Multiply both sides by 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TEP!!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multiplying BOTH sides by a NEGATIVE number, SWITCH the inequalit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your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the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CorShape1"/>
          <p:cNvSpPr/>
          <p:nvPr/>
        </p:nvSpPr>
        <p:spPr>
          <a:xfrm rot="10800000">
            <a:off x="7315200" y="342900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441680" y="1239840"/>
          <a:ext cx="3238560" cy="11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1680" y="1239840"/>
                    <a:ext cx="323856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430960" y="3203640"/>
          <a:ext cx="1655640" cy="113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0960" y="3203640"/>
                    <a:ext cx="165564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When solving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gt; -1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ll the inequality swit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ill don’t know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562720" y="380880"/>
          <a:ext cx="53316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80880"/>
                    <a:ext cx="5331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" name="AnswerNow"/>
          <p:cNvGrpSpPr/>
          <p:nvPr/>
        </p:nvGrpSpPr>
        <p:grpSpPr>
          <a:xfrm>
            <a:off x="76320" y="5334120"/>
            <a:ext cx="4444920" cy="698400"/>
            <a:chOff x="76320" y="5334120"/>
            <a:chExt cx="4444920" cy="698400"/>
          </a:xfrm>
        </p:grpSpPr>
        <p:sp>
          <p:nvSpPr>
            <p:cNvPr id="77" name="ANShape"/>
            <p:cNvSpPr/>
            <p:nvPr/>
          </p:nvSpPr>
          <p:spPr>
            <a:xfrm>
              <a:off x="2139840" y="533412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ANText"/>
            <p:cNvSpPr/>
            <p:nvPr/>
          </p:nvSpPr>
          <p:spPr>
            <a:xfrm>
              <a:off x="76320" y="552456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8cf4ea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Solve       &lt; -1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481720" y="274680"/>
          <a:ext cx="461880" cy="12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1720" y="274680"/>
                    <a:ext cx="46188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" name=""/>
          <p:cNvGrpSpPr/>
          <p:nvPr/>
        </p:nvGrpSpPr>
        <p:grpSpPr>
          <a:xfrm>
            <a:off x="1152360" y="5715000"/>
            <a:ext cx="6962760" cy="1020960"/>
            <a:chOff x="1152360" y="5715000"/>
            <a:chExt cx="6962760" cy="1020960"/>
          </a:xfrm>
        </p:grpSpPr>
        <p:grpSp>
          <p:nvGrpSpPr>
            <p:cNvPr id="83" name=""/>
            <p:cNvGrpSpPr/>
            <p:nvPr/>
          </p:nvGrpSpPr>
          <p:grpSpPr>
            <a:xfrm>
              <a:off x="1152360" y="6011640"/>
              <a:ext cx="6962760" cy="216000"/>
              <a:chOff x="1152360" y="6011640"/>
              <a:chExt cx="6962760" cy="21600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1152360" y="6140160"/>
                <a:ext cx="3470400" cy="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396800" y="6138720"/>
                <a:ext cx="66294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013600" y="6062400"/>
                <a:ext cx="88920" cy="12708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026200" y="6075360"/>
                <a:ext cx="180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8026200" y="613872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 flipV="1">
                <a:off x="8025840" y="607536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295280" y="6062400"/>
                <a:ext cx="127080" cy="127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1434960" y="6075360"/>
                <a:ext cx="144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1307520" y="607536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307880" y="613872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2882880" y="601164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4711680" y="601164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6540480" y="601164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4501800" y="5715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83160" y="6248160"/>
              <a:ext cx="544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3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73800" y="6248160"/>
              <a:ext cx="544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2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1400" y="6248160"/>
              <a:ext cx="544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3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886200" y="2438280"/>
            <a:ext cx="54100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x </a:t>
            </a:r>
            <a:r>
              <a:rPr b="1" lang="en-US" sz="4400" spc="-1" strike="noStrike">
                <a:solidFill>
                  <a:srgbClr val="fc0128"/>
                </a:solidFill>
                <a:latin typeface="Times New Roman"/>
              </a:rPr>
              <a:t>&lt;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-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 the fraction - Multiply both sides by 3. Do you switch the inequa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- Both sides are being multiplied by a posi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your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the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orShape1"/>
          <p:cNvSpPr/>
          <p:nvPr/>
        </p:nvSpPr>
        <p:spPr>
          <a:xfrm rot="10800000">
            <a:off x="7315200" y="342900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800600" y="1298520"/>
          <a:ext cx="3200400" cy="13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298520"/>
                    <a:ext cx="320040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268960" y="3203640"/>
          <a:ext cx="1979640" cy="113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8960" y="3203640"/>
                    <a:ext cx="197964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079280" y="1676520"/>
            <a:ext cx="3152880" cy="1028880"/>
            <a:chOff x="1079280" y="1676520"/>
            <a:chExt cx="3152880" cy="1028880"/>
          </a:xfrm>
        </p:grpSpPr>
        <p:sp>
          <p:nvSpPr>
            <p:cNvPr id="109" name=""/>
            <p:cNvSpPr/>
            <p:nvPr/>
          </p:nvSpPr>
          <p:spPr>
            <a:xfrm flipH="1" flipV="1">
              <a:off x="1079280" y="2109960"/>
              <a:ext cx="1571400" cy="14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90520" y="2108160"/>
              <a:ext cx="30020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86080" y="2031840"/>
              <a:ext cx="39960" cy="127080"/>
            </a:xfrm>
            <a:custGeom>
              <a:avLst/>
              <a:gdLst/>
              <a:ahLst/>
              <a:rect l="l" t="t" r="r" b="b"/>
              <a:pathLst>
                <a:path w="56" h="80">
                  <a:moveTo>
                    <a:pt x="0" y="0"/>
                  </a:moveTo>
                  <a:lnTo>
                    <a:pt x="0" y="80"/>
                  </a:lnTo>
                  <a:lnTo>
                    <a:pt x="5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92560" y="204480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192560" y="2107800"/>
              <a:ext cx="39600" cy="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4192560" y="2044800"/>
              <a:ext cx="3960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44440" y="2031840"/>
              <a:ext cx="5724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80"/>
                  </a:moveTo>
                  <a:lnTo>
                    <a:pt x="80" y="0"/>
                  </a:lnTo>
                  <a:lnTo>
                    <a:pt x="0" y="40"/>
                  </a:lnTo>
                  <a:lnTo>
                    <a:pt x="8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208160" y="204444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149120" y="2044800"/>
              <a:ext cx="5868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9480" y="2108160"/>
              <a:ext cx="58680" cy="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863720" y="198108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690640" y="1981080"/>
              <a:ext cx="180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519360" y="198108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96960" y="16765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2680" y="221760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43760" y="221760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97480" y="221760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066680" y="2522520"/>
            <a:ext cx="3267360" cy="991080"/>
            <a:chOff x="1066680" y="2522520"/>
            <a:chExt cx="3267360" cy="991080"/>
          </a:xfrm>
        </p:grpSpPr>
        <p:sp>
          <p:nvSpPr>
            <p:cNvPr id="127" name=""/>
            <p:cNvSpPr/>
            <p:nvPr/>
          </p:nvSpPr>
          <p:spPr>
            <a:xfrm flipV="1">
              <a:off x="2727360" y="2935440"/>
              <a:ext cx="1606680" cy="14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6680" y="2946240"/>
              <a:ext cx="31021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33960" y="2870280"/>
              <a:ext cx="42840" cy="127080"/>
            </a:xfrm>
            <a:custGeom>
              <a:avLst/>
              <a:gdLst/>
              <a:ahLst/>
              <a:rect l="l" t="t" r="r" b="b"/>
              <a:pathLst>
                <a:path w="56" h="80">
                  <a:moveTo>
                    <a:pt x="0" y="0"/>
                  </a:moveTo>
                  <a:lnTo>
                    <a:pt x="0" y="80"/>
                  </a:lnTo>
                  <a:lnTo>
                    <a:pt x="5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90440" y="2870280"/>
              <a:ext cx="5904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80"/>
                  </a:moveTo>
                  <a:lnTo>
                    <a:pt x="80" y="0"/>
                  </a:lnTo>
                  <a:lnTo>
                    <a:pt x="0" y="40"/>
                  </a:lnTo>
                  <a:lnTo>
                    <a:pt x="8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155600" y="2882520"/>
              <a:ext cx="180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096560" y="2882880"/>
              <a:ext cx="5868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96920" y="2946240"/>
              <a:ext cx="58680" cy="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833480" y="28191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689200" y="28191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544920" y="281916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60600" y="25225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54640" y="302580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85160" y="302580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00720" y="302580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079280" y="3348000"/>
            <a:ext cx="3152880" cy="1033920"/>
            <a:chOff x="1079280" y="3348000"/>
            <a:chExt cx="3152880" cy="1033920"/>
          </a:xfrm>
        </p:grpSpPr>
        <p:sp>
          <p:nvSpPr>
            <p:cNvPr id="142" name=""/>
            <p:cNvSpPr/>
            <p:nvPr/>
          </p:nvSpPr>
          <p:spPr>
            <a:xfrm>
              <a:off x="2442600" y="334800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Lucida Grande"/>
                </a:rPr>
                <a:t>●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079280" y="3785760"/>
              <a:ext cx="1571400" cy="18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90520" y="3784680"/>
              <a:ext cx="30020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86080" y="3708360"/>
              <a:ext cx="39960" cy="127080"/>
            </a:xfrm>
            <a:custGeom>
              <a:avLst/>
              <a:gdLst/>
              <a:ahLst/>
              <a:rect l="l" t="t" r="r" b="b"/>
              <a:pathLst>
                <a:path w="56" h="80">
                  <a:moveTo>
                    <a:pt x="0" y="0"/>
                  </a:moveTo>
                  <a:lnTo>
                    <a:pt x="0" y="80"/>
                  </a:lnTo>
                  <a:lnTo>
                    <a:pt x="5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92560" y="372096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192560" y="3784680"/>
              <a:ext cx="3960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4192560" y="3720600"/>
              <a:ext cx="39600" cy="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44440" y="3708360"/>
              <a:ext cx="5724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80"/>
                  </a:moveTo>
                  <a:lnTo>
                    <a:pt x="80" y="0"/>
                  </a:lnTo>
                  <a:lnTo>
                    <a:pt x="0" y="40"/>
                  </a:lnTo>
                  <a:lnTo>
                    <a:pt x="8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208160" y="372060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149120" y="3720960"/>
              <a:ext cx="58680" cy="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49480" y="3784680"/>
              <a:ext cx="5868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863720" y="365760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690640" y="3657600"/>
              <a:ext cx="180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519360" y="365760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32680" y="389412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43760" y="389412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7480" y="389412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076400" y="4419360"/>
            <a:ext cx="3138480" cy="724680"/>
            <a:chOff x="1076400" y="4419360"/>
            <a:chExt cx="3138480" cy="724680"/>
          </a:xfrm>
        </p:grpSpPr>
        <p:sp>
          <p:nvSpPr>
            <p:cNvPr id="160" name=""/>
            <p:cNvSpPr/>
            <p:nvPr/>
          </p:nvSpPr>
          <p:spPr>
            <a:xfrm flipV="1">
              <a:off x="2660760" y="4535640"/>
              <a:ext cx="1554120" cy="14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22480" y="4546440"/>
              <a:ext cx="3001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18040" y="4470480"/>
              <a:ext cx="41040" cy="127080"/>
            </a:xfrm>
            <a:custGeom>
              <a:avLst/>
              <a:gdLst/>
              <a:ahLst/>
              <a:rect l="l" t="t" r="r" b="b"/>
              <a:pathLst>
                <a:path w="56" h="80">
                  <a:moveTo>
                    <a:pt x="0" y="0"/>
                  </a:moveTo>
                  <a:lnTo>
                    <a:pt x="0" y="80"/>
                  </a:lnTo>
                  <a:lnTo>
                    <a:pt x="5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76400" y="4470480"/>
              <a:ext cx="5724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80"/>
                  </a:moveTo>
                  <a:lnTo>
                    <a:pt x="80" y="0"/>
                  </a:lnTo>
                  <a:lnTo>
                    <a:pt x="0" y="40"/>
                  </a:lnTo>
                  <a:lnTo>
                    <a:pt x="8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139760" y="448272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082160" y="4483080"/>
              <a:ext cx="5724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82520" y="4546440"/>
              <a:ext cx="57240" cy="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795320" y="44193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622600" y="441936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451320" y="441936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64280" y="465624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75360" y="465624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30880" y="465624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68080" y="4122720"/>
            <a:ext cx="51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AnswerNow"/>
          <p:cNvGrpSpPr/>
          <p:nvPr/>
        </p:nvGrpSpPr>
        <p:grpSpPr>
          <a:xfrm>
            <a:off x="76320" y="5334120"/>
            <a:ext cx="4444920" cy="698400"/>
            <a:chOff x="76320" y="5334120"/>
            <a:chExt cx="4444920" cy="698400"/>
          </a:xfrm>
        </p:grpSpPr>
        <p:sp>
          <p:nvSpPr>
            <p:cNvPr id="176" name="ANShape"/>
            <p:cNvSpPr/>
            <p:nvPr/>
          </p:nvSpPr>
          <p:spPr>
            <a:xfrm>
              <a:off x="2139840" y="533412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ANText"/>
            <p:cNvSpPr/>
            <p:nvPr/>
          </p:nvSpPr>
          <p:spPr>
            <a:xfrm>
              <a:off x="76320" y="552456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Which graph represents the correct answer to       &gt;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753160" y="723960"/>
          <a:ext cx="64764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53160" y="723960"/>
                    <a:ext cx="64764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CorShape1"/>
          <p:cNvSpPr/>
          <p:nvPr/>
        </p:nvSpPr>
        <p:spPr>
          <a:xfrm rot="10800000">
            <a:off x="101160" y="1792440"/>
            <a:ext cx="444600" cy="4442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da4b5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a quick brea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Things that make you go.....Hmm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is abbreviation such a long wor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o they have braille dots on the ATM machines in drive-thru’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) Solve -8p ≥ -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≥ 1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≥ -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≤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≤ -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AnswerNow"/>
          <p:cNvGrpSpPr/>
          <p:nvPr/>
        </p:nvGrpSpPr>
        <p:grpSpPr>
          <a:xfrm>
            <a:off x="76320" y="5334120"/>
            <a:ext cx="4444920" cy="698400"/>
            <a:chOff x="76320" y="5334120"/>
            <a:chExt cx="4444920" cy="698400"/>
          </a:xfrm>
        </p:grpSpPr>
        <p:sp>
          <p:nvSpPr>
            <p:cNvPr id="187" name="ANShape"/>
            <p:cNvSpPr/>
            <p:nvPr/>
          </p:nvSpPr>
          <p:spPr>
            <a:xfrm>
              <a:off x="2139840" y="533412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ANText"/>
            <p:cNvSpPr/>
            <p:nvPr/>
          </p:nvSpPr>
          <p:spPr>
            <a:xfrm>
              <a:off x="76320" y="552456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a27c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) Solve      -8p ≥ -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both sides by -8. Do you switch the inequa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- Both sides are being divided by a nega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your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the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CorShape1"/>
          <p:cNvSpPr/>
          <p:nvPr/>
        </p:nvSpPr>
        <p:spPr>
          <a:xfrm rot="10800000">
            <a:off x="8001000" y="396252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562720" y="1600200"/>
          <a:ext cx="259056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600200"/>
                    <a:ext cx="259056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4616280" y="3048120"/>
            <a:ext cx="4572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p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≤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8(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1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= -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52360" y="5638680"/>
            <a:ext cx="6962760" cy="986400"/>
            <a:chOff x="1152360" y="5638680"/>
            <a:chExt cx="6962760" cy="986400"/>
          </a:xfrm>
        </p:grpSpPr>
        <p:grpSp>
          <p:nvGrpSpPr>
            <p:cNvPr id="196" name=""/>
            <p:cNvGrpSpPr/>
            <p:nvPr/>
          </p:nvGrpSpPr>
          <p:grpSpPr>
            <a:xfrm>
              <a:off x="1152360" y="5900400"/>
              <a:ext cx="6962760" cy="215640"/>
              <a:chOff x="1152360" y="5900400"/>
              <a:chExt cx="6962760" cy="215640"/>
            </a:xfrm>
          </p:grpSpPr>
          <p:sp>
            <p:nvSpPr>
              <p:cNvPr id="197" name=""/>
              <p:cNvSpPr/>
              <p:nvPr/>
            </p:nvSpPr>
            <p:spPr>
              <a:xfrm flipH="1">
                <a:off x="1152360" y="6028920"/>
                <a:ext cx="3470400" cy="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396800" y="6027480"/>
                <a:ext cx="662940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013600" y="5951160"/>
                <a:ext cx="88920" cy="12672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026200" y="5964120"/>
                <a:ext cx="1800" cy="126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8026200" y="6027120"/>
                <a:ext cx="88920" cy="6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8025840" y="5963760"/>
                <a:ext cx="88920" cy="6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5280" y="5951160"/>
                <a:ext cx="127080" cy="1267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1434960" y="5963760"/>
                <a:ext cx="1440" cy="126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1307520" y="5964120"/>
                <a:ext cx="127080" cy="6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307880" y="6027480"/>
                <a:ext cx="127080" cy="6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2882880" y="590040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4711680" y="590040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540480" y="590040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4457880" y="563868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Lucida Grande"/>
                </a:rPr>
                <a:t>●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83160" y="613728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73800" y="613728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41760" y="613728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6T20:42:35Z</dcterms:created>
  <dc:creator>Skip Tyler</dc:creator>
  <dc:description/>
  <cp:keywords/>
  <dc:language>en-US</dc:language>
  <cp:lastModifiedBy>Parkland High School</cp:lastModifiedBy>
  <cp:lastPrinted>2009-04-22T19:24:48Z</cp:lastPrinted>
  <dcterms:modified xsi:type="dcterms:W3CDTF">2010-10-25T12:39:09Z</dcterms:modified>
  <cp:revision>43</cp:revision>
  <dc:subject/>
  <dc:title>Solving Inequalities with Multiplication and Division</dc:title>
</cp:coreProperties>
</file>